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9872-D4AC-4C18-9D57-313599786C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5DB2-1923-4A4E-97EB-792C575536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0F9F5-5727-451B-867D-D5FDC5091A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12-18T19:25:31Z</dcterms:modified>
  <cp:revision>78</cp:revision>
  <dc:subject/>
  <dc:title>One Laptop per Child</dc:title>
</cp:coreProperties>
</file>